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17A5-622B-4AC8-93ED-FD91781A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58B4-F3AA-406E-B009-9E00FF24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E9BA-2C0D-4E4D-A5BA-E9C39E000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385-E80D-4EDD-8D2C-D8571D1A4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EEB3-511C-45F9-963A-58A297C7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30C3-CD47-4697-90B3-A6272186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2E0-69C8-4D4F-A9E4-45BF9976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3A75-C264-46DA-9277-562371DB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162-75D7-4CB5-86AF-26B5A5CB8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0086-198A-45D8-B388-0084DFF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2E10-6213-4A07-B809-AA90D23D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FEB2-AB51-49BC-B9D1-E6DC96F63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09484-565E-48F6-8FAE-90FED13CB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00"/>
            </a:gs>
            <a:gs pos="100000">
              <a:srgbClr val="00ff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609480"/>
            <a:ext cx="87631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entence Variety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d Word Choic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487692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mas Greenaway, Jodi Seligman, Michael Crowe, David Wilens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0"/>
            <a:ext cx="8015400" cy="32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27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PRUCE UP YOUR SENTENCES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105520"/>
            <a:ext cx="3353040" cy="138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ING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og chased its tail. (simp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4800600"/>
            <a:ext cx="3809880" cy="174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BETTE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itannic Bold"/>
              </a:rPr>
              <a:t>The dog chased its tail while running around the field. (comple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0880" y="304920"/>
            <a:ext cx="817740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218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ATCHING gam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2743200"/>
            <a:ext cx="8229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 fell down the st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 fell down the stairs, but he didn’t hur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, who is very clumsy, fell down the stai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ob, who is very clumsy, fell down the stairs, but he didn’t hur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876920"/>
            <a:ext cx="73911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Black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Compound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00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33520" y="152280"/>
            <a:ext cx="784836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NSWERS TO MATCH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3733920"/>
            <a:ext cx="3276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-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-comp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-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-compound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228600" y="380880"/>
            <a:ext cx="87152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Tips for Varifying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your Sentence Structur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62120" y="1828800"/>
            <a:ext cx="7467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mon Conjunctive Adverb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819520"/>
            <a:ext cx="25146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y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s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equen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rther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9880" y="2743200"/>
            <a:ext cx="198144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ident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ke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nw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verth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2743200"/>
            <a:ext cx="2057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nethel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85800" y="533520"/>
            <a:ext cx="81532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entence Structure Continued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2057400"/>
            <a:ext cx="8515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mon Transitional Express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276720"/>
            <a:ext cx="25146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 a 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 an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the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1280" y="3200400"/>
            <a:ext cx="22100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ven 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ad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5880" y="3124080"/>
            <a:ext cx="23623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f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othe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cont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other h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066680" y="228600"/>
            <a:ext cx="72392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Instead of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15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tudents sat in the classroom while the teacher lectu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is friendly, and the cat is me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981080" y="2895480"/>
            <a:ext cx="55627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Better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4648320"/>
            <a:ext cx="7772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eacher lectured; however, the students could not pay attention and consequently failed the t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og is friendly and makes its owner happy; on the other hand, the cat is mean and mischevi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685800"/>
            <a:ext cx="850572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ORD CHOIC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2743200"/>
            <a:ext cx="3962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Word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house? What size? Where?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4419720"/>
            <a:ext cx="40384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kind of animal? What is its name? What color?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05520" y="2743200"/>
            <a:ext cx="380988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DJECTIV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large, wooden, three-story house on Main Str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at, black, green-eyed cat named Bon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066680" y="380880"/>
            <a:ext cx="7058160" cy="176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VIVID WORD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590920"/>
            <a:ext cx="56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eal to the s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3581280"/>
            <a:ext cx="77724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iece of pizza tasted g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elicious pepperoni piece of pizza tasted like it was homema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inting was beautifu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eloquent Picasso painting was full of vibrant colors and deep shadow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43:41Z</dcterms:created>
  <dc:creator>User</dc:creator>
  <dc:description/>
  <dc:language>en-US</dc:language>
  <cp:lastModifiedBy>User</cp:lastModifiedBy>
  <dcterms:modified xsi:type="dcterms:W3CDTF">2006-10-10T15:35:23Z</dcterms:modified>
  <cp:revision>2</cp:revision>
  <dc:subject/>
  <dc:title>Slide 1</dc:title>
</cp:coreProperties>
</file>